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25937-693A-4092-8DFF-946534317145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CEFEF-8857-477B-AC95-8229D12DC9F6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97B7F-84B0-458E-A036-4BE67B579D20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DFAAD-1071-4686-B691-484829B7433E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28583-0AAA-469C-BC30-7A96C3A5DD3A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3FF5B-7CB0-4A53-BAD0-5B8133A442A2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B98C4-63D5-4EEA-B78D-444533D8BD8C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D5E12-6440-46A2-946F-104F54D7BBB4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EC080-C80B-4CBE-B6B7-0F9C814707A1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4A47D-B234-4832-B396-325FEF381274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3FE2A-F82D-4EE4-BE25-95FA8BFD7995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40481-29DD-45F8-86CA-E06B40DF2E3B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AD1B8-FAAA-407E-A988-7F04AFC9202C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61BC7-71FE-468E-9DF8-3035181E660C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2DC5A-0F5A-43D3-8FF0-B0780B17E557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F065B-8F33-4F2D-A499-4C20FDFB31BA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AE690-56DA-439A-B4A1-8733A98BDD58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B8B29-ABC0-4643-BA27-BC7CBCBD244E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E4796-B97A-46DB-A9B1-93E9C4F759AE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60B18-C49C-4C24-BED3-8C68774B096B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878BD-0079-42A2-90C3-1320831C9C11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E33D4-96FB-4732-A864-BB5BB3F6E563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A7AB3-A6B8-4A11-B360-5001BB59EEFA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E5340-DB76-4EC4-B17E-FB831751F6B5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5ABA0-C9FB-46DF-A633-CA94DA8545FB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7747F-1D6C-4570-9846-79F2EC915358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CB4B4-DE3A-4003-905A-F81E648C7FFD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09970-7A93-4B26-9F42-DA17F2BDA5F9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52B9F-E691-41BA-9C5E-E84E2369E77A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71D62-AF84-4BF4-9E06-5CCF6D136106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6E07F-4DE6-43FA-9085-9E57D0DF5F92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75AD9-7438-4465-A258-3B9A371012FA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13037-EB72-4945-9AFF-F08C585563BF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2D171-960A-4DB2-A0AD-D8E7543B5875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F7FBC-09BE-4276-9598-05014CBE1042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5789B-23BE-4671-8BDE-6684A0101114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0F91F-4F75-45BE-AA1B-CEBFB262311E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A0827-02A2-4354-BD16-DDF5CD49F705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72E9B-994B-49B2-A5D1-DEE6E905F4AF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97AE4-5FAD-4419-B371-33B01A9475E6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90204-3715-4663-BF92-ADE25A83DF0D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CF7DD-3449-42B3-B2D7-5365598BA381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60271-4DDC-47B8-942A-78D1ADFA3C2F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53F0A-4DF8-4F2E-A731-A0F613DAD41C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0C82F-BC11-4CB0-B065-E1A6952592A0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8A549-41BE-4431-9F38-B57713126298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AE6EF-CD12-426E-94B1-ADA97F8224B0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3807-2B07-43B4-BCF5-F94C763A9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67C5-BC1C-42D2-B684-82766D33D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4190-314B-4AF2-A6A4-6EC0AB6EC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F4B5-8B82-4913-9B5E-3F5E3A5B5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82FB-4AD2-4D1F-AFAA-280D75920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7B41-4643-4966-9D94-2714E1A28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E33F-6300-4700-B677-14F78B742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A944-0A2F-4D4D-8514-0F7BE1177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9C39-9329-4F3D-A543-443DA05C7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2022-04D3-4A32-9203-E65F67C3F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18B8-6529-4FBD-BCF1-84BB314F7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78A6-DF27-4E29-96DC-0AEA9456E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5967B-3F68-4783-AC55-4A00BA166606}" type="slidenum">
              <a:rPr b="0" lang="ko-KR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好久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hǎojiǔ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오랫동안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清楚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TextBox 7"/>
          <p:cNvSpPr/>
          <p:nvPr/>
        </p:nvSpPr>
        <p:spPr>
          <a:xfrm rot="10800000">
            <a:off x="333000" y="6465600"/>
            <a:ext cx="6264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Arial"/>
              </a:rPr>
              <a:t>qīngchu</a:t>
            </a:r>
            <a:endParaRPr b="0" lang="en-US" sz="1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뚜렷하다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跑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pǎo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달리다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洗手间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TextBox 7"/>
          <p:cNvSpPr/>
          <p:nvPr/>
        </p:nvSpPr>
        <p:spPr>
          <a:xfrm rot="10800000">
            <a:off x="333000" y="6654240"/>
            <a:ext cx="626436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500" spc="-1" strike="noStrike">
                <a:solidFill>
                  <a:srgbClr val="000000"/>
                </a:solidFill>
                <a:latin typeface="Arial"/>
              </a:rPr>
              <a:t>xǐshǒujiān</a:t>
            </a:r>
            <a:endParaRPr b="0" lang="en-US" sz="9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화장실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教室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jiàoshì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교실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粉笔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fěnbǐ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분필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句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0" spc="-1" strike="noStrike">
                <a:solidFill>
                  <a:srgbClr val="000000"/>
                </a:solidFill>
                <a:latin typeface="Arial"/>
              </a:rPr>
              <a:t>jù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TextBox 8"/>
          <p:cNvSpPr/>
          <p:nvPr/>
        </p:nvSpPr>
        <p:spPr>
          <a:xfrm rot="10800000">
            <a:off x="215640" y="4970520"/>
            <a:ext cx="63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마디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편</a:t>
            </a:r>
            <a:endParaRPr b="0" lang="en-US" sz="9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话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huà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말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意思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yìsi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TextBox 8"/>
          <p:cNvSpPr/>
          <p:nvPr/>
        </p:nvSpPr>
        <p:spPr>
          <a:xfrm rot="10800000">
            <a:off x="215640" y="4970520"/>
            <a:ext cx="63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의미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뜻</a:t>
            </a:r>
            <a:endParaRPr b="0" lang="en-US" sz="9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听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tīng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듣다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打招呼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TextBox 7"/>
          <p:cNvSpPr/>
          <p:nvPr/>
        </p:nvSpPr>
        <p:spPr>
          <a:xfrm rot="10800000">
            <a:off x="333000" y="6645240"/>
            <a:ext cx="626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dǎzhāohu</a:t>
            </a:r>
            <a:endParaRPr b="0" lang="en-US" sz="9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인사하다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不见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bújiàn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만나지 않다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方法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TextBox 7"/>
          <p:cNvSpPr/>
          <p:nvPr/>
        </p:nvSpPr>
        <p:spPr>
          <a:xfrm rot="10800000">
            <a:off x="333000" y="623808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0" spc="-1" strike="noStrike">
                <a:solidFill>
                  <a:srgbClr val="000000"/>
                </a:solidFill>
                <a:latin typeface="Arial"/>
              </a:rPr>
              <a:t>fāngfǎ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방법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常常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TextBox 7"/>
          <p:cNvSpPr/>
          <p:nvPr/>
        </p:nvSpPr>
        <p:spPr>
          <a:xfrm rot="10800000">
            <a:off x="333000" y="6766920"/>
            <a:ext cx="6264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chángcháng</a:t>
            </a:r>
            <a:endParaRPr b="0" lang="en-US" sz="8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자주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晚安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wǎn'ān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TextBox 8"/>
          <p:cNvSpPr/>
          <p:nvPr/>
        </p:nvSpPr>
        <p:spPr>
          <a:xfrm rot="10800000">
            <a:off x="215640" y="5241600"/>
            <a:ext cx="6381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000000"/>
                </a:solidFill>
                <a:latin typeface="Arial"/>
              </a:rPr>
              <a:t>안녕히 주무세요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如果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rúguǒ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만약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熟人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0" spc="-1" strike="noStrike">
                <a:solidFill>
                  <a:srgbClr val="000000"/>
                </a:solidFill>
                <a:latin typeface="Arial"/>
              </a:rPr>
              <a:t>shúrén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TextBox 8"/>
          <p:cNvSpPr/>
          <p:nvPr/>
        </p:nvSpPr>
        <p:spPr>
          <a:xfrm rot="10800000">
            <a:off x="215640" y="5090760"/>
            <a:ext cx="6381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0" spc="-1" strike="noStrike">
                <a:solidFill>
                  <a:srgbClr val="000000"/>
                </a:solidFill>
                <a:latin typeface="Arial"/>
              </a:rPr>
              <a:t>잘 아는 사람</a:t>
            </a:r>
            <a:endParaRPr b="0" lang="en-US" sz="8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等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děng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등</a:t>
            </a:r>
            <a:r>
              <a:rPr b="0" lang="en-US" sz="9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따위</a:t>
            </a:r>
            <a:r>
              <a:rPr b="0" lang="en-US" sz="9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表示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biǎoshì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TextBox 8"/>
          <p:cNvSpPr/>
          <p:nvPr/>
        </p:nvSpPr>
        <p:spPr>
          <a:xfrm rot="10800000">
            <a:off x="215640" y="4970520"/>
            <a:ext cx="63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600" spc="-1" strike="noStrike">
                <a:solidFill>
                  <a:srgbClr val="000000"/>
                </a:solidFill>
                <a:latin typeface="Arial"/>
              </a:rPr>
              <a:t>나타내다</a:t>
            </a:r>
            <a:endParaRPr b="0" lang="en-US" sz="9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关心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TextBox 7"/>
          <p:cNvSpPr/>
          <p:nvPr/>
        </p:nvSpPr>
        <p:spPr>
          <a:xfrm rot="10800000">
            <a:off x="333000" y="6465600"/>
            <a:ext cx="6264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Arial"/>
              </a:rPr>
              <a:t>guānxīn</a:t>
            </a:r>
            <a:endParaRPr b="0" lang="en-US" sz="1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관심을 갖다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空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kòng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틈</a:t>
            </a:r>
            <a:r>
              <a:rPr b="0" lang="en-US" sz="9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짬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收拾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TextBox 7"/>
          <p:cNvSpPr/>
          <p:nvPr/>
        </p:nvSpPr>
        <p:spPr>
          <a:xfrm rot="10800000">
            <a:off x="333000" y="6465600"/>
            <a:ext cx="6264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Arial"/>
              </a:rPr>
              <a:t>shōushi</a:t>
            </a:r>
            <a:endParaRPr b="0" lang="en-US" sz="1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정리하다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挺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tǐng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매우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房间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TextBox 7"/>
          <p:cNvSpPr/>
          <p:nvPr/>
        </p:nvSpPr>
        <p:spPr>
          <a:xfrm rot="10800000">
            <a:off x="333000" y="6465600"/>
            <a:ext cx="6264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Arial"/>
              </a:rPr>
              <a:t>fángjiān</a:t>
            </a:r>
            <a:endParaRPr b="0" lang="en-US" sz="1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방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机会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jīhuì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기회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的话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dehuà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하다면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大衣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dàyī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외투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先生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TextBox 7"/>
          <p:cNvSpPr/>
          <p:nvPr/>
        </p:nvSpPr>
        <p:spPr>
          <a:xfrm rot="10800000">
            <a:off x="333000" y="6654240"/>
            <a:ext cx="626436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500" spc="-1" strike="noStrike">
                <a:solidFill>
                  <a:srgbClr val="000000"/>
                </a:solidFill>
                <a:latin typeface="Arial"/>
              </a:rPr>
              <a:t>xiānsheng</a:t>
            </a:r>
            <a:endParaRPr b="0" lang="en-US" sz="9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TextBox 8"/>
          <p:cNvSpPr/>
          <p:nvPr/>
        </p:nvSpPr>
        <p:spPr>
          <a:xfrm rot="10800000">
            <a:off x="215640" y="4970520"/>
            <a:ext cx="63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선생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씨</a:t>
            </a:r>
            <a:endParaRPr b="0" lang="en-US" sz="9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帮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bāng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돕다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不错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búcuò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TextBox 8"/>
          <p:cNvSpPr/>
          <p:nvPr/>
        </p:nvSpPr>
        <p:spPr>
          <a:xfrm rot="10800000">
            <a:off x="215640" y="5090760"/>
            <a:ext cx="6381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0" spc="-1" strike="noStrike">
                <a:solidFill>
                  <a:srgbClr val="000000"/>
                </a:solidFill>
                <a:latin typeface="Arial"/>
              </a:rPr>
              <a:t>좋다</a:t>
            </a: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8000" spc="-1" strike="noStrike">
                <a:solidFill>
                  <a:srgbClr val="000000"/>
                </a:solidFill>
                <a:latin typeface="Arial"/>
              </a:rPr>
              <a:t>괜찮다</a:t>
            </a:r>
            <a:endParaRPr b="0" lang="en-US" sz="8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书法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shūfǎ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서예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点心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diǎnxin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간식</a:t>
            </a:r>
            <a:r>
              <a:rPr b="0" lang="en-US" sz="9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과자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饭店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0" spc="-1" strike="noStrike">
                <a:solidFill>
                  <a:srgbClr val="000000"/>
                </a:solidFill>
                <a:latin typeface="Arial"/>
              </a:rPr>
              <a:t>fàndiàn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호텔</a:t>
            </a:r>
            <a:r>
              <a:rPr b="0" lang="en-US" sz="9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식당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哇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wā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감탄사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放心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fàngxīn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안심하다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工夫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gōngfu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여가</a:t>
            </a:r>
            <a:r>
              <a:rPr b="0" lang="en-US" sz="9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틈 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工作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6" name="TextBox 7"/>
          <p:cNvSpPr/>
          <p:nvPr/>
        </p:nvSpPr>
        <p:spPr>
          <a:xfrm rot="10800000">
            <a:off x="333000" y="6539760"/>
            <a:ext cx="626436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0" spc="-1" strike="noStrike">
                <a:solidFill>
                  <a:srgbClr val="000000"/>
                </a:solidFill>
                <a:latin typeface="Arial"/>
              </a:rPr>
              <a:t>gōngzuò</a:t>
            </a:r>
            <a:endParaRPr b="0" lang="en-US" sz="1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일하다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汽车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qìchē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자동차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所有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suǒyǒu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모든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小心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xiǎoxīn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조심하다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新闻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xīnwén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뉴스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照片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TextBox 7"/>
          <p:cNvSpPr/>
          <p:nvPr/>
        </p:nvSpPr>
        <p:spPr>
          <a:xfrm rot="10800000">
            <a:off x="333000" y="6539760"/>
            <a:ext cx="626436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0" spc="-1" strike="noStrike">
                <a:solidFill>
                  <a:srgbClr val="000000"/>
                </a:solidFill>
                <a:latin typeface="Arial"/>
              </a:rPr>
              <a:t>zhàopiàn</a:t>
            </a:r>
            <a:endParaRPr b="0" lang="en-US" sz="1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사진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机场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jīchǎng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공항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长城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TextBox 7"/>
          <p:cNvSpPr/>
          <p:nvPr/>
        </p:nvSpPr>
        <p:spPr>
          <a:xfrm rot="10800000">
            <a:off x="333000" y="6781320"/>
            <a:ext cx="626436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800" spc="-1" strike="noStrike">
                <a:solidFill>
                  <a:srgbClr val="000000"/>
                </a:solidFill>
                <a:latin typeface="Arial"/>
              </a:rPr>
              <a:t>Chángchéng</a:t>
            </a:r>
            <a:endParaRPr b="0" lang="en-US" sz="7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만리장성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京剧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jīngjù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경극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讲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jiǎng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TextBox 8"/>
          <p:cNvSpPr/>
          <p:nvPr/>
        </p:nvSpPr>
        <p:spPr>
          <a:xfrm rot="10800000">
            <a:off x="215640" y="4970520"/>
            <a:ext cx="63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설명하다</a:t>
            </a:r>
            <a:endParaRPr b="0" lang="en-US" sz="9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7T02:44:05Z</dcterms:created>
  <dc:creator>System</dc:creator>
  <dc:description/>
  <dc:language>en-US</dc:language>
  <cp:lastModifiedBy>System</cp:lastModifiedBy>
  <dcterms:modified xsi:type="dcterms:W3CDTF">2014-01-28T04:11:22Z</dcterms:modified>
  <cp:revision>15</cp:revision>
  <dc:subject/>
  <dc:title>슬라이드 1</dc:title>
</cp:coreProperties>
</file>